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3A5-F71E-4612-82B5-F4E8222F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D92-AF2B-4BAD-9C3F-10E78BF2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2A7-076D-420C-A3EE-1A3EE40F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330-4A25-478C-BB07-EE396EFA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137-4F8F-41DA-9A09-21AEE170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4A1-AFA2-4F02-8F7F-21B1AB26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4D7-354E-4FDB-98A2-3AE4B01F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587-81C9-4789-BF49-B4FA34B1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700-2352-4238-A0B7-20D4B08F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9C82-0819-4055-ADD7-CB03906B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205-8CD6-40E9-983D-66927753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3A2-27B9-4E79-95A9-B486C62F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30FA-23D6-4B68-B50E-5838A60784B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358128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34099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انجليزية البريطانية و الانجليزية الأمريك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68580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 Different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68580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كلمات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8195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- Different Sp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281952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روف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8769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e Abbrevi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487692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اختصارات اخر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177156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419720" y="160020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3885840"/>
            <a:ext cx="6019920" cy="2514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</a:rPr>
              <a:t>الـتـمـاريـ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hequ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ch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lif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ty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t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lo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 trouse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 fl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. program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. col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191120"/>
            <a:ext cx="7772400" cy="2361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tel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T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N.B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e.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10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O.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26:55Z</dcterms:created>
  <dc:creator>Bafayad</dc:creator>
  <dc:description/>
  <dc:language>en-US</dc:language>
  <cp:lastModifiedBy>معمل الانجليزي</cp:lastModifiedBy>
  <dcterms:modified xsi:type="dcterms:W3CDTF">2005-03-27T08:49:45Z</dcterms:modified>
  <cp:revision>7</cp:revision>
  <dc:subject/>
  <dc:title>عرض تقديمي من PowerPoint</dc:title>
</cp:coreProperties>
</file>